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36CD-7E98-4039-BE53-6A901963B3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B8C5-9ABA-43E6-9241-74387D02A1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404E-1DE3-4D73-BDF5-70B247861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2487-4FCB-45EB-A059-31BC09DD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F9DE-EEF2-43DC-8069-66B346AF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D11C-0A6B-44C3-8E96-E6ABA5D1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A54A-A45C-444A-960D-A2E0D482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8A34-E0F1-4FBA-9048-619D79E9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8268-CA51-427E-A69C-9F1583DA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30DA-0182-4940-944F-8D2CE3D1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5277-5C49-49CB-B1B0-36740621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DEE1-5E20-4060-B015-58C184EE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2E83-EA40-4942-B660-FBA19D79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8055-201C-4B80-9486-560AC4B6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D5CC-8763-4527-BD39-7F6526CE0A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3E47-8F49-4475-973C-B10741D393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287280" y="1555920"/>
          <a:ext cx="8829720" cy="530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555920"/>
                    <a:ext cx="8829720" cy="53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верхнего предела муниципального долга на 1 февраля 2023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C1E6-3206-4217-B1C9-476661950A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февраля 2023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8758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875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Наговицына</cp:lastModifiedBy>
  <cp:lastPrinted>2020-01-10T05:43:34Z</cp:lastPrinted>
  <dcterms:modified xsi:type="dcterms:W3CDTF">2023-02-01T05:59:56Z</dcterms:modified>
  <cp:revision>147</cp:revision>
  <dc:subject/>
  <dc:title>Презентация PowerPoint</dc:title>
</cp:coreProperties>
</file>